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1FC-01B0-4FE7-8F8D-2610601C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EDC-DB40-4128-884D-3A0C0DA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A5F-740F-4642-8004-2A354757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647-21FF-4F3F-9AA6-90AF214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D1BF5-042D-4B46-9DA3-8469E10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ABA2F-C544-4EA3-B451-1ACCA9C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71468-FB0E-4E90-8678-E238B6B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5AEA4-8E11-4C18-B02E-B0D1F554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22EC2-6D83-458F-A558-5F8085B7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B03BA-3FDC-4391-AEF9-6E0D363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F8803-4AFC-4E77-83FE-921B3A4B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C17-5C5B-44B1-B61A-F6862F1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C001-908B-4310-B706-30047FB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0731-3CCF-426E-8742-C7A1BD7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C717-285B-434D-87DF-E132C9A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5B532-F36F-4AC7-AD64-BE16280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8F333-6A8A-4239-8F56-49C27E4B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63A2D-0873-49F2-8C28-D4F1D0E6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6F408-770E-4791-8741-9BF54F4B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C7AB8-7E9F-4135-B87F-D6D6C67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9F8B7-7176-4102-A982-9079E8A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3740B-8902-4249-B422-BC23A79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BC0-1F82-4D30-B9B4-217389C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A7D83-487F-4727-9DA2-8BCCB0F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9118E-C04F-41BB-9DA6-2DAB2AA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0B273-8C3F-4BFD-94E8-32E68A44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8DE84-70AF-40C9-81E5-E05C10F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128BB-CEE5-4F09-A942-591B31D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EFD0D-06E4-4A9A-976E-68AE6A23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EC5CE-37B8-4C6F-B752-D0F43CF9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0216-B26A-4D50-AE6C-6A3B0DCE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9CBF-D944-4745-B939-880D331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9C10-D6DE-4C3E-9F6D-EDD45DB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518-4082-4094-BDBB-E9D32EE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C558-CEDB-4702-BA6F-AFD92A4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435A-4D00-419B-9DCB-2B38438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F2B4-1B8E-4587-844B-816ED056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A2EB-969C-4CF8-BF91-F27C999C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210F-4882-43FE-B790-89F19F6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E8C4-4082-47C8-B6ED-043AEB1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8BAF-7A88-4DF7-919C-1342ACB4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76C6-C118-4A58-AB87-DBFD1FC7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26DD-23A1-46B8-8CA8-9FC1E03F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7A74-8A0A-467D-821E-065DAF8C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2AB-5160-484E-82AE-D603F64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2CFB-40D0-4B8A-8B9C-AC106F0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F528-9EC8-4548-BDF5-C0E2802A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09ED-031B-40FE-886F-1E317CB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C9AE-2739-42E9-8497-2C2726F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5F73-6D26-44C7-822B-5C99286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3135-6896-4EED-BA68-5332492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2941-1FC1-4975-B5AD-9FB7366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8372-C2DD-4E20-94BB-6D3C9E7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63565-5F97-451E-B5F7-C30BB6FF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D92A-F0BD-4DD4-9990-03BD0EDD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754-B0BC-4C0A-AA8F-5D5F734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9029-0892-4ED2-8C7A-3B737F2D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3EC66-7828-4667-999C-ADC1D3CD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C09B-DB52-4203-9607-B870EA2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CFC2D-9CA2-4D4B-A8DE-F7591291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6CF3-48DD-49EB-ADAE-1EE92C2F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7C2C-14BD-4825-BD14-132E709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598D-ACB8-4F38-BB47-FDC73694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EF63-5FDA-4157-9834-99972FF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830A-F673-45F9-A771-62270FA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F781-49DD-40DA-BA0C-DB06AB8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6CB-1E23-4AFF-BD73-587CCA5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D3CE-EB7E-4E6F-B26A-FD01D33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BF77B-7B05-4938-B9A1-F01A0726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8DCE-A210-460F-9A6C-53E09843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8B866-9EE5-4A1B-AF43-9AB89D1A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911AA-668B-4867-99EE-4417CB07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5652-A246-473B-A3C0-880C010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3A9B7-2FDA-4387-9F8A-7552159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0346-1831-4350-893A-24BF48B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9C86-A6D3-4E82-B178-031091C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3A27-2319-4D26-9B0A-44C7036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3E4-415D-42FD-BF6C-FE834C5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54771-6A3D-46CD-85FD-63EC084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9AFA-6C56-4744-8439-9AB75DF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A1B57-D911-4769-BD15-23E236D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314F-25DD-47AC-8EB2-675E5FB1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1246-E9B3-4F52-9C8A-1B633133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D11-496D-4D53-AD62-3F15E15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3DC-2534-46CE-AAD6-570215D31D87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E8B-88A8-4EF7-952E-01EBC2A43C9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BA0-211A-4FF1-BB98-E61C4F18F497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E05-CFE4-44C3-9961-21012AE85E2C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CE0-4F8A-412E-8B09-502D8F9BCA8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312-497C-4841-8F99-BADA0AAC0340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309-2529-43A7-8FC9-32CCAB691E17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reative Writing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NOV. 8, 2011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f you could transport yourself anyone in the world right now, where would you go? Why?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RITING WARM-UP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447920" y="2614680"/>
            <a:ext cx="60195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A type of poetry that does not have a specific and structured rhythm or rhyme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FREE VERSE POEMS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GONNA BAKE ME A RAINBOW POEM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752480"/>
            <a:ext cx="3124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stirred 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 red and o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blue and pur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our momma’s pa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ted a lott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imbo’s cray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they st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 and my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APED AND SCRA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butter kn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191120" y="1676520"/>
            <a:ext cx="327636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til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momma wal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the 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sa’ yell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sa’ cry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friend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 wan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a rainbow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’t like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omy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y Wi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EDDAR CHEESE AND CHOCOLATE CAK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80880" y="160020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am crazy about rich, dark, espresso coffe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am addicted to extra-sharp cheddar cheese and chocolate cak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never tire of window-shopping or munching crisp apple pies from Burger King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can consume a whole package of Wheat Thins while curled up reading a favorite nove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wear purple eyeshadow and pink nail varnish- alway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ove to laugh and scream for joy, to sing at the top of my voi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ike to play heavy rock loud enough to burst your eardrums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ike crazy parties, whipped cream, and solitu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t Gainsbo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THINGS THAT GO AWAY &amp; COME BACK AGAI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80880" y="1752480"/>
            <a:ext cx="3124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s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mera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un, the moon, the st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267080" y="1828800"/>
            <a:ext cx="3124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d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ea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y Laund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 Wal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ICCUP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0948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r Hicc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the enemy of my mouth and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the worst thing that could ever- hic- hap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ever should disturb me aga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hall toss you out of my vocal ch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like hail on an angry allig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catch my drift, dear hiccups-hic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get far, far a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out-hic-DEAR, AWFUL HICCUP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ic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nnifer Nuss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6840" y="1722600"/>
            <a:ext cx="404028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e Journey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520" y="2133720"/>
            <a:ext cx="4116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0772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ne day you finally knew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hat you had to do, and began,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voices around you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kept shouting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eir bad advice --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whole house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gan to tremble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nd you felt the old tug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t your ankles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"Mend my life!"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each voice cried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ut you didn't stop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You knew what you had to do,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48040" indent="-20772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wind pried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h its stiff fingers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t the very foundations,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ir melancholy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as terrible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419360" y="14475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By Mary Oliver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752120"/>
            <a:ext cx="381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180360"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15280" indent="-180360"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It was already lat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enough, and a wild night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nd the road full of fallen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branches and stones.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But little by little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s you left their voices behind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stars began to burn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rough the sheets of clouds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nd there was a new voic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which you slowly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recognized as your own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at kept you company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s you strode deeper and deeper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into the world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termined to do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only thing you could do --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termined to sav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only life you could save. 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CCALL’S FAVORITE POEM EVER!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rite your own free verse poem with at least 10 lines, a refrain and alliteration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e prepared to share. </a:t>
            </a:r>
            <a:r>
              <a:rPr b="0" lang="en-US" sz="2000" spc="-1" strike="noStrike">
                <a:solidFill>
                  <a:srgbClr val="53494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2:41:03Z</dcterms:created>
  <dc:creator>David Huff</dc:creator>
  <dc:description/>
  <dc:language>en-US</dc:language>
  <cp:lastModifiedBy>Angie McCall</cp:lastModifiedBy>
  <dcterms:modified xsi:type="dcterms:W3CDTF">2011-11-07T21:37:39Z</dcterms:modified>
  <cp:revision>7</cp:revision>
  <dc:subject/>
  <dc:title>Free Verse Poems</dc:title>
</cp:coreProperties>
</file>